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1ECA-1633-4BFB-9ABE-951E0FBE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2433-D3CA-4D6C-B599-622BAF55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D81-A339-413E-9EE1-467C7B3F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582-E31C-4EB1-9F49-2A8D52E9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B51-6476-4384-9C54-744EE399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C5B-CFC3-4BB4-B8A9-639B630A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E4C-C2FF-453C-89AB-8757DADA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505-19A9-4AE8-8B36-A3D23B6A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32F-57F8-45C1-AAF5-E102651D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5DD5-FF7F-4548-880B-76959664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5A0-9E68-4D4A-BEDB-C29FE816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6F73-407C-47CD-9AC7-5ECDD954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B9A7-8C39-436A-AE61-1A13F0355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hyperlink" Target="http://www.petitpaume.com/restaurant-lyon-1.htm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a v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3933360"/>
            <a:ext cx="84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Gener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re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better/worst than country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c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on géné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2667240" cy="2648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8000" y="3068640"/>
            <a:ext cx="142920" cy="1443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24720" y="1628640"/>
            <a:ext cx="1243080" cy="165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372360" y="3500280"/>
            <a:ext cx="2381040" cy="152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79280" y="4508640"/>
            <a:ext cx="1905120" cy="1590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708360" y="3645000"/>
            <a:ext cx="1714680" cy="273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059280" y="1628640"/>
            <a:ext cx="2381040" cy="179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651640" y="2133720"/>
            <a:ext cx="16668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2800" y="6237360"/>
            <a:ext cx="351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petitpaume.com/restaurant-lyon-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Ly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65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on géné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habite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à Ly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en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Fra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Ly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est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une vil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ituée dans le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sud-es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e la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Fra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à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450km de Par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Lyon est la deuxième ville de Franc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elle a 465.300 habitants.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yon est au bord de deux rivières.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(27 wo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J’adore ma ville, </a:t>
            </a:r>
            <a:r>
              <a:rPr b="1" lang="en-GB" sz="3200" spc="-1" strike="noStrike">
                <a:solidFill>
                  <a:srgbClr val="008000"/>
                </a:solidFill>
                <a:latin typeface="Comic Sans MS"/>
              </a:rPr>
              <a:t>car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 elle est magnifiqu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(give an opinion and a reason) –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(36 wo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on géné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yon est un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grand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ll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industriel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ouristiqu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historiqu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’est auss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capitale gastronomique de la Fra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(54 wo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ns ma vill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il y 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beaucoup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’immeubles,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il n’y a pa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e maisons individuel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uss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ans ma ville, il y a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une </a:t>
            </a:r>
            <a:r>
              <a:rPr b="1" lang="en-GB" sz="3200" spc="-1" strike="noStrike" u="sng">
                <a:solidFill>
                  <a:srgbClr val="ff0066"/>
                </a:solidFill>
                <a:uFillTx/>
                <a:latin typeface="Comic Sans MS"/>
              </a:rPr>
              <a:t>belle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 piscin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un </a:t>
            </a:r>
            <a:r>
              <a:rPr b="1" lang="en-GB" sz="3200" spc="-1" strike="noStrike" u="sng">
                <a:solidFill>
                  <a:srgbClr val="ff0066"/>
                </a:solidFill>
                <a:uFillTx/>
                <a:latin typeface="Comic Sans MS"/>
              </a:rPr>
              <a:t>grand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 stad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de foo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une église </a:t>
            </a:r>
            <a:r>
              <a:rPr b="1" lang="en-GB" sz="3200" spc="-1" strike="noStrike" u="sng">
                <a:solidFill>
                  <a:srgbClr val="ff0066"/>
                </a:solidFill>
                <a:uFillTx/>
                <a:latin typeface="Comic Sans MS"/>
              </a:rPr>
              <a:t>magnifiqu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(91 wo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2:26:37Z</dcterms:created>
  <dc:creator>Caroline Cassels</dc:creator>
  <dc:description/>
  <dc:language>en-US</dc:language>
  <cp:lastModifiedBy>Caroline Cassels</cp:lastModifiedBy>
  <dcterms:modified xsi:type="dcterms:W3CDTF">2007-03-11T13:37:19Z</dcterms:modified>
  <cp:revision>9</cp:revision>
  <dc:subject/>
  <dc:title>Ma ville</dc:title>
</cp:coreProperties>
</file>